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720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3AE-CFDA-48C1-98FB-98C12FF7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59148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808960"/>
            <a:ext cx="59148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466-1588-4C1D-A9A0-15E8E77C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80896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80896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C65-CE4B-41D4-92D7-3F5BB401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58768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58768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80896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80896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80896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174-CDDD-4767-80F3-AF5DF671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587680"/>
            <a:ext cx="591480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74E-4768-4E6E-ACF5-7671D425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59148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FE3-3E7D-4FAB-ABFA-7E7C2A75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DFF-ECD5-4EF3-8653-AF086743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9FF-6083-41FD-8D98-CFD8D40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17680"/>
            <a:ext cx="5914800" cy="87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669-EA58-42F1-A4AD-4A5953FE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80896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F80-0B13-4AA2-ADC3-21C3510F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80896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7F9-0859-4582-B805-1B2EC9F3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808960"/>
            <a:ext cx="59148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BDF-87B1-4535-8E74-2DA3570A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587680"/>
            <a:ext cx="59148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009000"/>
            <a:ext cx="15429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009000"/>
            <a:ext cx="23148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009000"/>
            <a:ext cx="15429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0BE69-2044-4640-8537-D12FA846B99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23760"/>
            <a:ext cx="6927840" cy="9804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5379840"/>
            <a:ext cx="58291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арева Дарья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6640" y="6566040"/>
            <a:ext cx="52545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нарная книга дополненной ре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2630520" y="690480"/>
            <a:ext cx="138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b3838"/>
                </a:solidFill>
                <a:latin typeface="Calibri"/>
              </a:rPr>
              <a:t>XX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2666880" y="9302760"/>
            <a:ext cx="15242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-6 апреля 2022 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4T12:19:31Z</dcterms:created>
  <dc:creator>USER</dc:creator>
  <dc:description/>
  <dc:language>en-US</dc:language>
  <cp:lastModifiedBy>Михаил Кленов</cp:lastModifiedBy>
  <dcterms:modified xsi:type="dcterms:W3CDTF">2022-04-05T14:56:10Z</dcterms:modified>
  <cp:revision>27</cp:revision>
  <dc:subject/>
  <dc:title>Иван Иванов</dc:title>
</cp:coreProperties>
</file>