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720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2AE-C06F-49C7-BC27-630FF1A6D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600" y="580896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F36-2FB2-4E1E-B28C-B31AC0D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244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397-E8FB-440B-9932-60EB9550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7176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71560" y="258768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60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7176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71560" y="5808960"/>
            <a:ext cx="19044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78D7-5D00-46BD-9475-20D6CA11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2C1-8BF1-4873-8B90-3ADDB37B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A73-DBC0-47FB-B4E5-B2059AAE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CDB-1879-41F0-AA08-E60A47F7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6B9-2951-46F9-824A-7752B0C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71600" y="517680"/>
            <a:ext cx="5914800" cy="87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5DDB-5D4E-4C3A-9ABB-0C9F1753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DCE1-81DB-4017-B748-1AD8172C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2440" y="580896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0950-8B2D-46B3-8C59-7D65148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7160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2440" y="2587680"/>
            <a:ext cx="288612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600" y="5808960"/>
            <a:ext cx="5914800" cy="29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B481-D7C6-4ECB-9F80-35552D4A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1600" y="517680"/>
            <a:ext cx="591480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71600" y="2587680"/>
            <a:ext cx="5914800" cy="616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1600" y="9009000"/>
            <a:ext cx="15429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71600" y="9009000"/>
            <a:ext cx="23148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843440" y="9009000"/>
            <a:ext cx="154296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72C9CA-96ED-4FDC-BDB9-03DD51205902}" type="slidenum">
              <a:rPr b="0" lang="ru-RU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"/>
          <p:cNvPicPr/>
          <p:nvPr/>
        </p:nvPicPr>
        <p:blipFill>
          <a:blip r:embed="rId1"/>
          <a:stretch/>
        </p:blipFill>
        <p:spPr>
          <a:xfrm>
            <a:off x="0" y="23760"/>
            <a:ext cx="6927840" cy="9804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5379840"/>
            <a:ext cx="58291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гарева Дарья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6640" y="6566040"/>
            <a:ext cx="525456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инарная книга дополненной реа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2630520" y="690480"/>
            <a:ext cx="138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3b3838"/>
                </a:solidFill>
                <a:latin typeface="Calibri"/>
              </a:rPr>
              <a:t>XX</a:t>
            </a:r>
            <a:r>
              <a:rPr b="0" lang="ru-RU" sz="3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одзаголовок 2"/>
          <p:cNvSpPr/>
          <p:nvPr/>
        </p:nvSpPr>
        <p:spPr>
          <a:xfrm>
            <a:off x="2666880" y="9302760"/>
            <a:ext cx="15242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4-6 апреля 2022 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14T12:19:31Z</dcterms:created>
  <dc:creator>USER</dc:creator>
  <dc:description/>
  <dc:language>en-US</dc:language>
  <cp:lastModifiedBy>Михаил Кленов</cp:lastModifiedBy>
  <dcterms:modified xsi:type="dcterms:W3CDTF">2022-04-05T14:56:10Z</dcterms:modified>
  <cp:revision>27</cp:revision>
  <dc:subject/>
  <dc:title>Иван Иванов</dc:title>
</cp:coreProperties>
</file>