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D90-DAEE-43CD-BC95-38E7BFB8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A6C-AB00-4CCE-A84A-BBBAEEC1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541-6347-402D-9C83-E70FBCA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EBC-F540-42BD-9020-9537786F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B9FE-8228-4F6C-8501-DB1F6F18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7665-7BE7-47A0-AEC1-31E1072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096-96C3-41C3-B26F-DB64530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B50C-4435-4460-880F-A58D90DC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562-AC41-48CB-802C-C2EEF5A9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9938-556D-4E8C-9300-3FF00A3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838-3432-4F6C-84DF-FA959F4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999-9556-42BB-A4D0-E3E015F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9E7-F460-4EB2-9FF0-08847EE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F053-8614-4C18-B0C0-F9C53E5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8220-E511-4835-90DB-69BDCE90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9C4D-8F8F-4F66-9B10-21953DE6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826-5593-4E38-9E3C-FF864E8F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933-799C-4023-921D-838F328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4A4-7883-4445-B951-F2DB1D1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9D8-7F7A-49D0-86F4-9DC5F82B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DA0-B5B4-4992-9E21-948CA7D2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FC1-69DA-4542-AA45-40D8B0C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4BD-E6D4-467A-B867-C6B64CB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CA3-FE5C-49F7-A480-2B64572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F9A8A7-78B0-46E3-BF35-D6ED6DBE6DD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76AF-B172-4EF5-BB5B-719B1488B8D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16000" y="2041560"/>
            <a:ext cx="6120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АЛГОРИТМ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5640" y="4248000"/>
            <a:ext cx="63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форматика в играх и задач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ч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uch.znate.ru/docs/779/index-1340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а из рассказа Л.Гераскиной «В стране невыученных уро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ntent.mail.ru/arch/61046/1147474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а дв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oard.kiev-info.net/221-dveri-i-okna-balkonyi-i-lestnitsyi/1/listing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к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900igr.net/kartinki/informatika/Algoritm-s-vetvleniem/010-Algoritm-posadki-derev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ожка русской народной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eb-pups.ru/detskie-skazki/454-podi-tuda-ne-znayu-kuda-prinesi-to-ne-znayu-cht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Georgia"/>
              </a:rPr>
              <a:t>Отгадай ребу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2200" y="2619360"/>
            <a:ext cx="38196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4479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последовательность действ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водящая к достижению заран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авле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3606"/>
          <a:stretch/>
        </p:blipFill>
        <p:spPr>
          <a:xfrm>
            <a:off x="380880" y="11430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знить нельзя, помиловать!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знить, нельзя помиловать!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606"/>
          <a:stretch/>
        </p:blipFill>
        <p:spPr>
          <a:xfrm>
            <a:off x="1219320" y="1646280"/>
            <a:ext cx="640080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Georgia"/>
              </a:rPr>
              <a:t>Открой дв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924200"/>
            <a:ext cx="3814920" cy="3881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просить ключ у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ставить ключ в замочную скваж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овернуть ключ два раза по часовой 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ынуть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500" t="7576" r="2500" b="12721"/>
          <a:stretch/>
        </p:blipFill>
        <p:spPr>
          <a:xfrm>
            <a:off x="228600" y="1219320"/>
            <a:ext cx="8686800" cy="47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6759" r="0" b="6759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тавить алгоритм по выбор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юс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юсь на рыба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остроить сквор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решить задачу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делать уборку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1:51:56Z</dcterms:created>
  <dc:creator>Светлана</dc:creator>
  <dc:description/>
  <dc:language>en-US</dc:language>
  <cp:lastModifiedBy/>
  <dcterms:modified xsi:type="dcterms:W3CDTF">2019-03-07T07:46:4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