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84F-395F-407A-99E4-4A0AD4B1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511-0296-4D44-80A7-4F95DC96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41B-AFDF-46F8-B373-7C154AF6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A63-A8A6-401E-8B7C-4EED527C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1C97-FCCB-44E8-909E-A4DEA6AF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B68F-B5EA-4466-A7B0-90FCDC93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95BF-9C05-4FA4-B94D-3EA9631C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5EB5-9940-4969-863E-6813D00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2BE8-E1A7-4AC2-B264-728387E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0F19-032C-4E84-AB92-E023E6E6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C309-972C-4504-806B-C0CD22C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168-528F-4C69-94C9-828E397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551C-136B-4271-BC69-3EFFCD50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EED8-0C95-4507-A594-3E48BE7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C232-CA05-46D4-A3B3-83871D7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56CA-68A0-417D-9EFB-D64AF1C6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D932-017A-41FA-8A32-3C254E20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1CC-ACBD-47C6-B8CF-11DC3786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0EB-1E82-4AEC-ADF1-25F5B08C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1CB-9111-4725-BE74-BF4AF8A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482-7392-4075-8FDC-01D64985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C3D-5C6F-40A7-BBFD-4B094CC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408-BFB9-4E42-8947-FF579D2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314-AA9D-412B-80CB-534AF27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5BAF7F-457B-4982-9A36-8679B0DB7AD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1849A-A586-4E33-BDE7-D5846332079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16000" y="2041560"/>
            <a:ext cx="61200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АЛГОРИТМ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5640" y="4248000"/>
            <a:ext cx="63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форматика в играх и задач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точ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uch.znate.ru/docs/779/index-1340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а из рассказа Л.Гераскиной «В стране невыученных урок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ntent.mail.ru/arch/61046/11474749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а дв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oard.kiev-info.net/221-dveri-i-okna-balkonyi-i-lestnitsyi/1/listing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адк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900igr.net/kartinki/informatika/Algoritm-s-vetvleniem/010-Algoritm-posadki-derev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ожка русской народной ска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eb-pups.ru/detskie-skazki/454-podi-tuda-ne-znayu-kuda-prinesi-to-ne-znayu-cht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330033"/>
                </a:solidFill>
                <a:latin typeface="Georgia"/>
              </a:rPr>
              <a:t>Отгадай ребу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2200" y="2619360"/>
            <a:ext cx="381960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44792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Алгорит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последовательность действ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водящая к достижению заран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авле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0" b="3606"/>
          <a:stretch/>
        </p:blipFill>
        <p:spPr>
          <a:xfrm>
            <a:off x="380880" y="11430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знить нельзя, помиловать!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знить, нельзя помиловать!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606"/>
          <a:stretch/>
        </p:blipFill>
        <p:spPr>
          <a:xfrm>
            <a:off x="1219320" y="1646280"/>
            <a:ext cx="640080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Georgia"/>
              </a:rPr>
              <a:t>Открой дв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924200"/>
            <a:ext cx="3814920" cy="3881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просить ключ у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Вставить ключ в замочную скваж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овернуть ключ два раза по часовой ст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Вынуть 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500" t="7576" r="2500" b="12721"/>
          <a:stretch/>
        </p:blipFill>
        <p:spPr>
          <a:xfrm>
            <a:off x="228600" y="1219320"/>
            <a:ext cx="8686800" cy="47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616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6759" r="0" b="6759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ставить алгоритм по выбор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ираюсь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ираюсь на рыбал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остроить сквор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решить задачу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делать уборку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1:51:56Z</dcterms:created>
  <dc:creator>Светлана</dc:creator>
  <dc:description/>
  <dc:language>en-US</dc:language>
  <cp:lastModifiedBy/>
  <dcterms:modified xsi:type="dcterms:W3CDTF">2019-03-07T07:46:4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